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491F-3527-463E-BF47-D6D26D4CDB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6CA6-15B3-48D0-AB2B-EFD9A82BB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2F0-1CB5-4F71-9EB4-00C7EB1B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63D-DBC9-4819-8CAA-38F879F7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FC3-0C88-4D85-96B1-E664C19D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EE5-3845-4154-B45B-C3B655B3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2FE-3A7C-4E9E-92BB-F96F02F1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19BC-31E2-4BCC-AF76-3F00D1A2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E0C7-80CD-43E0-83E0-653B96E5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7859-76E3-48BB-875F-B632AA72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BC8F-F103-4B78-BD67-BC3DDC5A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08E6-77D5-4E83-B70D-21A45F46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38A-7C00-45AF-85BD-35C7F1D2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FF1E-23F3-4B00-B6D6-2FE0C6F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0A51-CE9C-449E-AFCA-2079B2B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70B1-814F-4A21-AA39-1B4C203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D35A-97CA-4D24-BC13-339668A1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6D44-9AD4-4759-8531-F4FAF74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D511-7E70-482D-9F8A-4A64F611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1D6D-E996-452E-9F0A-5A0FC880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94C-15E8-43B6-812B-67905B76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160-32C3-4CE4-8175-1FDAB3B5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7F2-DBC3-46BD-913B-145E065C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0E6-4BE1-4242-B098-EC8B0679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908-49DA-47F1-9BE8-E28262B1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268-90AA-4FBF-AD02-C915580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22320" y="0"/>
            <a:ext cx="9166320" cy="6607080"/>
            <a:chOff x="-22320" y="0"/>
            <a:chExt cx="9166320" cy="6607080"/>
          </a:xfrm>
        </p:grpSpPr>
        <p:pic>
          <p:nvPicPr>
            <p:cNvPr id="1" name="Picture 5" descr=""/>
            <p:cNvPicPr/>
            <p:nvPr/>
          </p:nvPicPr>
          <p:blipFill>
            <a:blip r:embed="rId2"/>
            <a:stretch/>
          </p:blipFill>
          <p:spPr>
            <a:xfrm>
              <a:off x="-22320" y="0"/>
              <a:ext cx="916632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2" descr=""/>
            <p:cNvPicPr/>
            <p:nvPr/>
          </p:nvPicPr>
          <p:blipFill>
            <a:blip r:embed="rId3"/>
            <a:stretch/>
          </p:blipFill>
          <p:spPr>
            <a:xfrm>
              <a:off x="7761240" y="5229360"/>
              <a:ext cx="1079280" cy="13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A318-2138-406E-AD75-BC5EDCB577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-22320" y="0"/>
            <a:ext cx="9166320" cy="6607080"/>
            <a:chOff x="-22320" y="0"/>
            <a:chExt cx="9166320" cy="6607080"/>
          </a:xfrm>
        </p:grpSpPr>
        <p:pic>
          <p:nvPicPr>
            <p:cNvPr id="45" name="Picture 5" descr=""/>
            <p:cNvPicPr/>
            <p:nvPr/>
          </p:nvPicPr>
          <p:blipFill>
            <a:blip r:embed="rId2"/>
            <a:stretch/>
          </p:blipFill>
          <p:spPr>
            <a:xfrm>
              <a:off x="-22320" y="0"/>
              <a:ext cx="916632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" descr=""/>
            <p:cNvPicPr/>
            <p:nvPr/>
          </p:nvPicPr>
          <p:blipFill>
            <a:blip r:embed="rId3"/>
            <a:stretch/>
          </p:blipFill>
          <p:spPr>
            <a:xfrm>
              <a:off x="7761240" y="5229360"/>
              <a:ext cx="1079280" cy="13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-22320" y="0"/>
            <a:ext cx="9166320" cy="6607080"/>
            <a:chOff x="-22320" y="0"/>
            <a:chExt cx="9166320" cy="6607080"/>
          </a:xfrm>
        </p:grpSpPr>
        <p:pic>
          <p:nvPicPr>
            <p:cNvPr id="86" name="Picture 5" descr=""/>
            <p:cNvPicPr/>
            <p:nvPr/>
          </p:nvPicPr>
          <p:blipFill>
            <a:blip r:embed="rId2"/>
            <a:stretch/>
          </p:blipFill>
          <p:spPr>
            <a:xfrm>
              <a:off x="-22320" y="0"/>
              <a:ext cx="916632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" descr=""/>
            <p:cNvPicPr/>
            <p:nvPr/>
          </p:nvPicPr>
          <p:blipFill>
            <a:blip r:embed="rId3"/>
            <a:stretch/>
          </p:blipFill>
          <p:spPr>
            <a:xfrm>
              <a:off x="7761240" y="5229360"/>
              <a:ext cx="1079280" cy="13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EE4F-200E-4134-A7E6-0104D12299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-22320" y="0"/>
            <a:ext cx="9166320" cy="6607080"/>
            <a:chOff x="-22320" y="0"/>
            <a:chExt cx="9166320" cy="6607080"/>
          </a:xfrm>
        </p:grpSpPr>
        <p:pic>
          <p:nvPicPr>
            <p:cNvPr id="130" name="Picture 5" descr=""/>
            <p:cNvPicPr/>
            <p:nvPr/>
          </p:nvPicPr>
          <p:blipFill>
            <a:blip r:embed="rId2"/>
            <a:stretch/>
          </p:blipFill>
          <p:spPr>
            <a:xfrm>
              <a:off x="-22320" y="0"/>
              <a:ext cx="916632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3"/>
            <a:stretch/>
          </p:blipFill>
          <p:spPr>
            <a:xfrm>
              <a:off x="7761240" y="5229360"/>
              <a:ext cx="1079280" cy="13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"/>
          <p:cNvGrpSpPr/>
          <p:nvPr/>
        </p:nvGrpSpPr>
        <p:grpSpPr>
          <a:xfrm>
            <a:off x="-22320" y="0"/>
            <a:ext cx="9166320" cy="6607080"/>
            <a:chOff x="-22320" y="0"/>
            <a:chExt cx="9166320" cy="6607080"/>
          </a:xfrm>
        </p:grpSpPr>
        <p:pic>
          <p:nvPicPr>
            <p:cNvPr id="171" name="Picture 5" descr=""/>
            <p:cNvPicPr/>
            <p:nvPr/>
          </p:nvPicPr>
          <p:blipFill>
            <a:blip r:embed="rId2"/>
            <a:stretch/>
          </p:blipFill>
          <p:spPr>
            <a:xfrm>
              <a:off x="-22320" y="0"/>
              <a:ext cx="916632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" descr=""/>
            <p:cNvPicPr/>
            <p:nvPr/>
          </p:nvPicPr>
          <p:blipFill>
            <a:blip r:embed="rId3"/>
            <a:stretch/>
          </p:blipFill>
          <p:spPr>
            <a:xfrm>
              <a:off x="7761240" y="5229360"/>
              <a:ext cx="1079280" cy="13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Flowchart: Delay 24"/>
          <p:cNvSpPr/>
          <p:nvPr/>
        </p:nvSpPr>
        <p:spPr>
          <a:xfrm flipH="1">
            <a:off x="1959120" y="3441600"/>
            <a:ext cx="1387440" cy="2052720"/>
          </a:xfrm>
          <a:custGeom>
            <a:avLst/>
            <a:gdLst/>
            <a:ahLst/>
            <a:rect l="l" t="t" r="r" b="b"/>
            <a:pathLst>
              <a:path w="2066400" h="2422800">
                <a:moveTo>
                  <a:pt x="0" y="0"/>
                </a:moveTo>
                <a:lnTo>
                  <a:pt x="1033200" y="0"/>
                </a:lnTo>
                <a:cubicBezTo>
                  <a:pt x="1603821" y="0"/>
                  <a:pt x="2066400" y="542362"/>
                  <a:pt x="2066400" y="1211400"/>
                </a:cubicBezTo>
                <a:cubicBezTo>
                  <a:pt x="2066400" y="1880438"/>
                  <a:pt x="1603821" y="2422800"/>
                  <a:pt x="1033200" y="2422800"/>
                </a:cubicBezTo>
                <a:lnTo>
                  <a:pt x="0" y="2422800"/>
                </a:lnTo>
              </a:path>
            </a:pathLst>
          </a:custGeom>
          <a:noFill/>
          <a:ln w="3556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Delay 24"/>
          <p:cNvSpPr/>
          <p:nvPr/>
        </p:nvSpPr>
        <p:spPr>
          <a:xfrm>
            <a:off x="7118280" y="1379520"/>
            <a:ext cx="1387440" cy="2052720"/>
          </a:xfrm>
          <a:custGeom>
            <a:avLst/>
            <a:gdLst/>
            <a:ahLst/>
            <a:rect l="l" t="t" r="r" b="b"/>
            <a:pathLst>
              <a:path w="2066400" h="2422800">
                <a:moveTo>
                  <a:pt x="0" y="0"/>
                </a:moveTo>
                <a:lnTo>
                  <a:pt x="1033200" y="0"/>
                </a:lnTo>
                <a:cubicBezTo>
                  <a:pt x="1603821" y="0"/>
                  <a:pt x="2066400" y="542362"/>
                  <a:pt x="2066400" y="1211400"/>
                </a:cubicBezTo>
                <a:cubicBezTo>
                  <a:pt x="2066400" y="1880438"/>
                  <a:pt x="1603821" y="2422800"/>
                  <a:pt x="1033200" y="2422800"/>
                </a:cubicBezTo>
                <a:lnTo>
                  <a:pt x="0" y="2422800"/>
                </a:lnTo>
              </a:path>
            </a:pathLst>
          </a:custGeom>
          <a:noFill/>
          <a:ln w="355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313080" y="1208160"/>
            <a:ext cx="3805200" cy="355680"/>
          </a:xfrm>
          <a:prstGeom prst="rect">
            <a:avLst/>
          </a:prstGeom>
          <a:gradFill rotWithShape="0">
            <a:gsLst>
              <a:gs pos="0">
                <a:srgbClr val="bac82f"/>
              </a:gs>
              <a:gs pos="100000">
                <a:srgbClr val="0c6d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0" y="1208160"/>
            <a:ext cx="3313080" cy="355680"/>
          </a:xfrm>
          <a:prstGeom prst="rect">
            <a:avLst/>
          </a:prstGeom>
          <a:gradFill rotWithShape="0">
            <a:gsLst>
              <a:gs pos="0">
                <a:srgbClr val="f2c020"/>
              </a:gs>
              <a:gs pos="100000">
                <a:srgbClr val="bac8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3313080" y="3268800"/>
            <a:ext cx="3805200" cy="35712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3311640" y="5318280"/>
            <a:ext cx="3805200" cy="35712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f2c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7086600" y="5316480"/>
            <a:ext cx="2057400" cy="35712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f2c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Year 6 French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lf-term 1 – Describing myself and ot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rcRect l="2356" t="1854" r="1000" b="1854"/>
          <a:stretch/>
        </p:blipFill>
        <p:spPr>
          <a:xfrm>
            <a:off x="3591000" y="950760"/>
            <a:ext cx="1962000" cy="129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77640" y="1676520"/>
            <a:ext cx="66690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0" lang="en-GB" sz="1900" spc="-1" strike="noStrike" u="sng">
                <a:solidFill>
                  <a:srgbClr val="000000"/>
                </a:solidFill>
                <a:uFillTx/>
                <a:latin typeface="Comic Sans MS"/>
              </a:rPr>
              <a:t>L’objectif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br>
              <a:rPr sz="2200"/>
            </a:b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o be able to describe yours &amp; other’s physical appear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143000" y="887400"/>
            <a:ext cx="1863720" cy="75888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Comic Sans MS"/>
              </a:rPr>
              <a:t>La grande idé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omic Sans MS"/>
              </a:rPr>
              <a:t>Identity &amp; cul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3021120" y="887400"/>
            <a:ext cx="3116160" cy="75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omic Sans MS"/>
              </a:rPr>
              <a:t>Décris toi-mê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6"/>
          <p:cNvSpPr/>
          <p:nvPr/>
        </p:nvSpPr>
        <p:spPr>
          <a:xfrm>
            <a:off x="1360440" y="3914640"/>
            <a:ext cx="1865520" cy="778680"/>
          </a:xfrm>
          <a:prstGeom prst="rect">
            <a:avLst/>
          </a:prstGeom>
          <a:solidFill>
            <a:srgbClr val="ffc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Can I recall adjectives in French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3478320" y="3995640"/>
            <a:ext cx="1866960" cy="12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Am I able to explain rules about word order &amp; gendered nouns in French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5595840" y="3989520"/>
            <a:ext cx="2005200" cy="1235160"/>
          </a:xfrm>
          <a:prstGeom prst="rect">
            <a:avLst/>
          </a:prstGeom>
          <a:solidFill>
            <a:srgbClr val="ffff66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Am I able to apply vocabulary to independently describe physical appearanc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1498680" y="3429000"/>
            <a:ext cx="177624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UTCOM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6130800" y="887400"/>
            <a:ext cx="1863720" cy="75888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Comic Sans MS"/>
              </a:rPr>
              <a:t>La grande idée</a:t>
            </a:r>
            <a:r>
              <a:rPr b="1" lang="en-GB" sz="11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omic Sans MS"/>
              </a:rPr>
              <a:t>Theme 1 – Identity &amp; cul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2"/>
          <p:cNvSpPr/>
          <p:nvPr/>
        </p:nvSpPr>
        <p:spPr>
          <a:xfrm>
            <a:off x="7118280" y="1170000"/>
            <a:ext cx="16876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2"/>
          <p:cNvSpPr/>
          <p:nvPr/>
        </p:nvSpPr>
        <p:spPr>
          <a:xfrm>
            <a:off x="7443720" y="1893960"/>
            <a:ext cx="57492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45600" y="3587400"/>
            <a:ext cx="12956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5600" y="3927240"/>
            <a:ext cx="129564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700" spc="-1" strike="noStrike">
              <a:solidFill>
                <a:srgbClr val="454d55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45960" y="5725800"/>
            <a:ext cx="712800" cy="685800"/>
          </a:xfrm>
          <a:prstGeom prst="rect">
            <a:avLst/>
          </a:prstGeom>
          <a:ln w="3600">
            <a:solidFill>
              <a:srgbClr val="454d55"/>
            </a:solidFill>
            <a:miter/>
          </a:ln>
        </p:spPr>
      </p:pic>
      <p:sp>
        <p:nvSpPr>
          <p:cNvPr id="233" name=""/>
          <p:cNvSpPr txBox="1"/>
          <p:nvPr/>
        </p:nvSpPr>
        <p:spPr>
          <a:xfrm>
            <a:off x="6450120" y="3066840"/>
            <a:ext cx="553680" cy="737640"/>
          </a:xfrm>
          <a:prstGeom prst="rect">
            <a:avLst/>
          </a:prstGeom>
          <a:solidFill>
            <a:srgbClr val="ffffff"/>
          </a:solidFill>
          <a:ln w="72360">
            <a:solidFill>
              <a:srgbClr val="eeece1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78600" y="4073040"/>
            <a:ext cx="129528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500" spc="-1" strike="noStrike">
              <a:solidFill>
                <a:srgbClr val="0c6d82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78600" y="4255920"/>
            <a:ext cx="1295280" cy="1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300" spc="-1" strike="noStrike">
              <a:solidFill>
                <a:srgbClr val="454d55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442120" y="3066840"/>
            <a:ext cx="553680" cy="737640"/>
          </a:xfrm>
          <a:prstGeom prst="rect">
            <a:avLst/>
          </a:prstGeom>
          <a:solidFill>
            <a:srgbClr val="ffffff"/>
          </a:solidFill>
          <a:ln w="72360">
            <a:solidFill>
              <a:srgbClr val="c4bd97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4120" y="3066840"/>
            <a:ext cx="553680" cy="737640"/>
          </a:xfrm>
          <a:prstGeom prst="rect">
            <a:avLst/>
          </a:prstGeom>
          <a:solidFill>
            <a:srgbClr val="ffffff"/>
          </a:solidFill>
          <a:ln w="72360">
            <a:solidFill>
              <a:srgbClr val="376092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065120" y="4073040"/>
            <a:ext cx="129564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500" spc="-1" strike="noStrike">
              <a:solidFill>
                <a:srgbClr val="571b6d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065120" y="4255920"/>
            <a:ext cx="1295640" cy="1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300" spc="-1" strike="noStrike">
              <a:solidFill>
                <a:srgbClr val="454d55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426120" y="3066840"/>
            <a:ext cx="553680" cy="737640"/>
          </a:xfrm>
          <a:prstGeom prst="rect">
            <a:avLst/>
          </a:prstGeom>
          <a:solidFill>
            <a:srgbClr val="ffffff"/>
          </a:solidFill>
          <a:ln w="72360">
            <a:solidFill>
              <a:srgbClr val="1f497d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756080" y="4132080"/>
            <a:ext cx="553680" cy="737640"/>
          </a:xfrm>
          <a:prstGeom prst="rect">
            <a:avLst/>
          </a:prstGeom>
          <a:solidFill>
            <a:srgbClr val="1f497d"/>
          </a:solidFill>
          <a:ln w="72360">
            <a:solidFill>
              <a:srgbClr val="ffffff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426120" y="5122800"/>
            <a:ext cx="553680" cy="739080"/>
          </a:xfrm>
          <a:prstGeom prst="rect">
            <a:avLst/>
          </a:prstGeom>
          <a:solidFill>
            <a:srgbClr val="ffffff"/>
          </a:solidFill>
          <a:ln w="72360">
            <a:solidFill>
              <a:srgbClr val="1f497d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3057480" y="4566960"/>
            <a:ext cx="129384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8"/>
          <p:cNvSpPr>
            <a:spLocks noGrp="1"/>
          </p:cNvSpPr>
          <p:nvPr>
            <p:ph/>
          </p:nvPr>
        </p:nvSpPr>
        <p:spPr>
          <a:xfrm>
            <a:off x="3057480" y="4749480"/>
            <a:ext cx="12938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300" spc="-1" strike="noStrike">
              <a:solidFill>
                <a:srgbClr val="454d55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34120" y="5122800"/>
            <a:ext cx="553680" cy="739080"/>
          </a:xfrm>
          <a:prstGeom prst="rect">
            <a:avLst/>
          </a:prstGeom>
          <a:solidFill>
            <a:srgbClr val="ffffff"/>
          </a:solidFill>
          <a:ln w="72360">
            <a:solidFill>
              <a:srgbClr val="9bbb59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9"/>
          <p:cNvSpPr>
            <a:spLocks noGrp="1"/>
          </p:cNvSpPr>
          <p:nvPr>
            <p:ph/>
          </p:nvPr>
        </p:nvSpPr>
        <p:spPr>
          <a:xfrm>
            <a:off x="4067280" y="6121080"/>
            <a:ext cx="129528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500" spc="-1" strike="noStrike">
              <a:solidFill>
                <a:srgbClr val="9bbb59"/>
              </a:solidFill>
              <a:latin typeface="Calibri"/>
            </a:endParaRPr>
          </a:p>
        </p:txBody>
      </p:sp>
      <p:sp>
        <p:nvSpPr>
          <p:cNvPr id="247" name="PlaceHolder 10"/>
          <p:cNvSpPr>
            <a:spLocks noGrp="1"/>
          </p:cNvSpPr>
          <p:nvPr>
            <p:ph/>
          </p:nvPr>
        </p:nvSpPr>
        <p:spPr>
          <a:xfrm>
            <a:off x="4067280" y="6303600"/>
            <a:ext cx="129528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300" spc="-1" strike="noStrike">
              <a:solidFill>
                <a:srgbClr val="454d55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42120" y="5122800"/>
            <a:ext cx="553680" cy="739080"/>
          </a:xfrm>
          <a:prstGeom prst="rect">
            <a:avLst/>
          </a:prstGeom>
          <a:solidFill>
            <a:srgbClr val="ffffff"/>
          </a:solidFill>
          <a:ln w="72360">
            <a:solidFill>
              <a:srgbClr val="8064a2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1"/>
          <p:cNvSpPr>
            <a:spLocks noGrp="1"/>
          </p:cNvSpPr>
          <p:nvPr>
            <p:ph/>
          </p:nvPr>
        </p:nvSpPr>
        <p:spPr>
          <a:xfrm>
            <a:off x="5070600" y="4566960"/>
            <a:ext cx="129384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500" spc="-1" strike="noStrike">
              <a:solidFill>
                <a:srgbClr val="e8611d"/>
              </a:solidFill>
              <a:latin typeface="Calibri"/>
            </a:endParaRPr>
          </a:p>
        </p:txBody>
      </p:sp>
      <p:sp>
        <p:nvSpPr>
          <p:cNvPr id="250" name="PlaceHolder 12"/>
          <p:cNvSpPr>
            <a:spLocks noGrp="1"/>
          </p:cNvSpPr>
          <p:nvPr>
            <p:ph/>
          </p:nvPr>
        </p:nvSpPr>
        <p:spPr>
          <a:xfrm>
            <a:off x="5070600" y="4749480"/>
            <a:ext cx="12938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300" spc="-1" strike="noStrike">
              <a:solidFill>
                <a:srgbClr val="454d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450120" y="5122800"/>
            <a:ext cx="553680" cy="739080"/>
          </a:xfrm>
          <a:prstGeom prst="rect">
            <a:avLst/>
          </a:prstGeom>
          <a:solidFill>
            <a:srgbClr val="ffffff"/>
          </a:solidFill>
          <a:ln w="72360">
            <a:solidFill>
              <a:srgbClr val="4bacc6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3"/>
          <p:cNvSpPr>
            <a:spLocks noGrp="1"/>
          </p:cNvSpPr>
          <p:nvPr>
            <p:ph/>
          </p:nvPr>
        </p:nvSpPr>
        <p:spPr>
          <a:xfrm>
            <a:off x="6079680" y="6121080"/>
            <a:ext cx="129564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500" spc="-1" strike="noStrike">
              <a:solidFill>
                <a:srgbClr val="4bacc6"/>
              </a:solidFill>
              <a:latin typeface="Calibri"/>
            </a:endParaRPr>
          </a:p>
        </p:txBody>
      </p:sp>
      <p:sp>
        <p:nvSpPr>
          <p:cNvPr id="253" name="PlaceHolder 14"/>
          <p:cNvSpPr>
            <a:spLocks noGrp="1"/>
          </p:cNvSpPr>
          <p:nvPr>
            <p:ph/>
          </p:nvPr>
        </p:nvSpPr>
        <p:spPr>
          <a:xfrm>
            <a:off x="6079680" y="6303600"/>
            <a:ext cx="12956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300" spc="-1" strike="noStrike">
              <a:solidFill>
                <a:srgbClr val="454d55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834320" y="5126040"/>
            <a:ext cx="553680" cy="739080"/>
          </a:xfrm>
          <a:prstGeom prst="rect">
            <a:avLst/>
          </a:prstGeom>
          <a:solidFill>
            <a:srgbClr val="4bacc6"/>
          </a:solidFill>
          <a:ln w="72360">
            <a:solidFill>
              <a:srgbClr val="ffffff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2068560" y="1212840"/>
            <a:ext cx="5167440" cy="338040"/>
          </a:xfrm>
          <a:prstGeom prst="rect">
            <a:avLst/>
          </a:prstGeom>
          <a:solidFill>
            <a:srgbClr val="006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9"/>
          <p:cNvSpPr/>
          <p:nvPr/>
        </p:nvSpPr>
        <p:spPr>
          <a:xfrm>
            <a:off x="0" y="1206360"/>
            <a:ext cx="1450800" cy="357480"/>
          </a:xfrm>
          <a:prstGeom prst="rect">
            <a:avLst/>
          </a:prstGeom>
          <a:solidFill>
            <a:srgbClr val="006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95080" y="1133640"/>
            <a:ext cx="528840" cy="553680"/>
          </a:xfrm>
          <a:prstGeom prst="rect">
            <a:avLst/>
          </a:prstGeom>
          <a:solidFill>
            <a:srgbClr val="006d86"/>
          </a:solidFill>
          <a:ln w="72360">
            <a:solidFill>
              <a:srgbClr val="ffffff"/>
            </a:solidFill>
            <a:miter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Year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Placeholder 12"/>
          <p:cNvSpPr/>
          <p:nvPr/>
        </p:nvSpPr>
        <p:spPr>
          <a:xfrm>
            <a:off x="2414520" y="1127160"/>
            <a:ext cx="574920" cy="571320"/>
          </a:xfrm>
          <a:prstGeom prst="ellipse">
            <a:avLst/>
          </a:prstGeom>
          <a:solidFill>
            <a:srgbClr val="ffffff"/>
          </a:solidFill>
          <a:ln w="72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000" spc="-1" strike="noStrike">
                <a:solidFill>
                  <a:srgbClr val="454d55"/>
                </a:solidFill>
                <a:latin typeface="Calibri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Placeholder 13"/>
          <p:cNvSpPr/>
          <p:nvPr/>
        </p:nvSpPr>
        <p:spPr>
          <a:xfrm>
            <a:off x="3249720" y="1109520"/>
            <a:ext cx="574560" cy="569880"/>
          </a:xfrm>
          <a:prstGeom prst="ellipse">
            <a:avLst/>
          </a:prstGeom>
          <a:solidFill>
            <a:srgbClr val="ffffff"/>
          </a:solidFill>
          <a:ln w="72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000" spc="-1" strike="noStrike">
                <a:solidFill>
                  <a:srgbClr val="454d55"/>
                </a:solidFill>
                <a:latin typeface="Calibri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Placeholder 14"/>
          <p:cNvSpPr/>
          <p:nvPr/>
        </p:nvSpPr>
        <p:spPr>
          <a:xfrm>
            <a:off x="4148280" y="1093680"/>
            <a:ext cx="574560" cy="571680"/>
          </a:xfrm>
          <a:prstGeom prst="ellipse">
            <a:avLst/>
          </a:prstGeom>
          <a:solidFill>
            <a:srgbClr val="ffffff"/>
          </a:solidFill>
          <a:ln w="72360">
            <a:solidFill>
              <a:srgbClr val="6a21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000" spc="-1" strike="noStrike">
                <a:solidFill>
                  <a:srgbClr val="454d55"/>
                </a:solidFill>
                <a:latin typeface="Calibri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Placeholder 11"/>
          <p:cNvSpPr/>
          <p:nvPr/>
        </p:nvSpPr>
        <p:spPr>
          <a:xfrm>
            <a:off x="4986360" y="1079640"/>
            <a:ext cx="574560" cy="569880"/>
          </a:xfrm>
          <a:prstGeom prst="ellipse">
            <a:avLst/>
          </a:prstGeom>
          <a:solidFill>
            <a:srgbClr val="ffffff"/>
          </a:solidFill>
          <a:ln w="72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000" spc="-1" strike="noStrike">
                <a:solidFill>
                  <a:srgbClr val="454d55"/>
                </a:solidFill>
                <a:latin typeface="Calibri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Placeholder 11"/>
          <p:cNvSpPr/>
          <p:nvPr/>
        </p:nvSpPr>
        <p:spPr>
          <a:xfrm>
            <a:off x="5883120" y="1087560"/>
            <a:ext cx="574920" cy="565200"/>
          </a:xfrm>
          <a:prstGeom prst="ellipse">
            <a:avLst/>
          </a:prstGeom>
          <a:solidFill>
            <a:srgbClr val="ffffff"/>
          </a:solidFill>
          <a:ln w="72360">
            <a:solidFill>
              <a:srgbClr val="54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000" spc="-1" strike="noStrike">
                <a:solidFill>
                  <a:srgbClr val="454d55"/>
                </a:solidFill>
                <a:latin typeface="Calibri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Placeholder 11"/>
          <p:cNvSpPr/>
          <p:nvPr/>
        </p:nvSpPr>
        <p:spPr>
          <a:xfrm>
            <a:off x="6734160" y="1074600"/>
            <a:ext cx="574560" cy="567000"/>
          </a:xfrm>
          <a:prstGeom prst="ellipse">
            <a:avLst/>
          </a:prstGeom>
          <a:solidFill>
            <a:srgbClr val="ffffff"/>
          </a:solidFill>
          <a:ln w="72360">
            <a:solidFill>
              <a:srgbClr val="54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000" spc="-1" strike="noStrike">
                <a:solidFill>
                  <a:srgbClr val="454d55"/>
                </a:solidFill>
                <a:latin typeface="Calibri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1"/>
          <p:cNvSpPr/>
          <p:nvPr/>
        </p:nvSpPr>
        <p:spPr>
          <a:xfrm>
            <a:off x="208080" y="2365200"/>
            <a:ext cx="8935920" cy="43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Placeholder 34"/>
          <p:cNvSpPr/>
          <p:nvPr/>
        </p:nvSpPr>
        <p:spPr>
          <a:xfrm>
            <a:off x="1932120" y="684360"/>
            <a:ext cx="15382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1" lang="en-GB" sz="1100" spc="-1" strike="noStrike">
                <a:solidFill>
                  <a:srgbClr val="ff0000"/>
                </a:solidFill>
                <a:latin typeface="Comic Sans MS"/>
                <a:ea typeface="Arial"/>
              </a:rPr>
              <a:t>Describ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1" lang="en-GB" sz="1100" spc="-1" strike="noStrike">
                <a:solidFill>
                  <a:srgbClr val="ff0000"/>
                </a:solidFill>
                <a:latin typeface="Comic Sans MS"/>
                <a:ea typeface="Arial"/>
              </a:rPr>
              <a:t>yoursel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Placeholder 30"/>
          <p:cNvSpPr/>
          <p:nvPr/>
        </p:nvSpPr>
        <p:spPr>
          <a:xfrm>
            <a:off x="2359080" y="1819440"/>
            <a:ext cx="2314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6000"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100" spc="-1" strike="noStrike">
                <a:solidFill>
                  <a:srgbClr val="403474"/>
                </a:solidFill>
                <a:latin typeface="Comic Sans MS"/>
                <a:ea typeface="Arial"/>
              </a:rPr>
              <a:t>Describ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100" spc="-1" strike="noStrike">
                <a:solidFill>
                  <a:srgbClr val="403474"/>
                </a:solidFill>
                <a:latin typeface="Comic Sans MS"/>
                <a:ea typeface="Arial"/>
              </a:rPr>
              <a:t>oth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Placeholder 28"/>
          <p:cNvSpPr/>
          <p:nvPr/>
        </p:nvSpPr>
        <p:spPr>
          <a:xfrm>
            <a:off x="4462560" y="1784520"/>
            <a:ext cx="166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9000"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100" spc="-1" strike="noStrike">
                <a:solidFill>
                  <a:srgbClr val="6f0066"/>
                </a:solidFill>
                <a:latin typeface="Comic Sans MS"/>
                <a:ea typeface="Arial"/>
              </a:rPr>
              <a:t>Hobbi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100" spc="-1" strike="noStrike">
                <a:solidFill>
                  <a:srgbClr val="6f0066"/>
                </a:solidFill>
                <a:latin typeface="Comic Sans MS"/>
                <a:ea typeface="Arial"/>
              </a:rPr>
              <a:t>(past tens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Placeholder 32"/>
          <p:cNvSpPr/>
          <p:nvPr/>
        </p:nvSpPr>
        <p:spPr>
          <a:xfrm>
            <a:off x="5578560" y="808200"/>
            <a:ext cx="1217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100" spc="-1" strike="noStrike">
                <a:solidFill>
                  <a:srgbClr val="54004e"/>
                </a:solidFill>
                <a:latin typeface="Comic Sans MS"/>
                <a:ea typeface="Arial"/>
              </a:rPr>
              <a:t>School</a:t>
            </a:r>
            <a:r>
              <a:rPr b="0" lang="en-GB" sz="1000" spc="-1" strike="noStrike">
                <a:solidFill>
                  <a:srgbClr val="54004e"/>
                </a:solidFill>
                <a:latin typeface="Calibri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Placeholder 30"/>
          <p:cNvSpPr/>
          <p:nvPr/>
        </p:nvSpPr>
        <p:spPr>
          <a:xfrm>
            <a:off x="3286080" y="669960"/>
            <a:ext cx="231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6000"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100" spc="-1" strike="noStrike">
                <a:solidFill>
                  <a:srgbClr val="403474"/>
                </a:solidFill>
                <a:latin typeface="Comic Sans MS"/>
                <a:ea typeface="Arial"/>
              </a:rPr>
              <a:t>Hobbi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100" spc="-1" strike="noStrike">
                <a:solidFill>
                  <a:srgbClr val="403474"/>
                </a:solidFill>
                <a:latin typeface="Comic Sans MS"/>
                <a:ea typeface="Arial"/>
              </a:rPr>
              <a:t>(present tens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Placeholder 32"/>
          <p:cNvSpPr/>
          <p:nvPr/>
        </p:nvSpPr>
        <p:spPr>
          <a:xfrm>
            <a:off x="6458040" y="1805040"/>
            <a:ext cx="1218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GB" sz="1000" spc="-1" strike="noStrike">
                <a:solidFill>
                  <a:srgbClr val="54004e"/>
                </a:solidFill>
                <a:latin typeface="Comic Sans MS"/>
                <a:ea typeface="Arial"/>
              </a:rPr>
              <a:t>Life in year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7859880" y="1557360"/>
            <a:ext cx="981000" cy="83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7535880" y="1603440"/>
            <a:ext cx="357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2"/>
          <a:stretch/>
        </p:blipFill>
        <p:spPr>
          <a:xfrm>
            <a:off x="5978520" y="1190520"/>
            <a:ext cx="417600" cy="385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3"/>
          <a:srcRect l="4589" t="5515" r="8441" b="65361"/>
          <a:stretch/>
        </p:blipFill>
        <p:spPr>
          <a:xfrm>
            <a:off x="6772320" y="1208160"/>
            <a:ext cx="496800" cy="317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4"/>
          <a:srcRect l="24277" t="6344" r="25745" b="11312"/>
          <a:stretch/>
        </p:blipFill>
        <p:spPr>
          <a:xfrm>
            <a:off x="2571840" y="1195560"/>
            <a:ext cx="263520" cy="466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"/>
          <p:cNvPicPr/>
          <p:nvPr/>
        </p:nvPicPr>
        <p:blipFill>
          <a:blip r:embed="rId5"/>
          <a:srcRect l="9701" t="11143" r="13034" b="68435"/>
          <a:stretch/>
        </p:blipFill>
        <p:spPr>
          <a:xfrm rot="19793400">
            <a:off x="3319200" y="1290240"/>
            <a:ext cx="457200" cy="185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"/>
          <p:cNvPicPr/>
          <p:nvPr/>
        </p:nvPicPr>
        <p:blipFill>
          <a:blip r:embed="rId6"/>
          <a:srcRect l="26894" t="25987" r="24408" b="22627"/>
          <a:stretch/>
        </p:blipFill>
        <p:spPr>
          <a:xfrm>
            <a:off x="4255920" y="1174680"/>
            <a:ext cx="371520" cy="390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7"/>
          <a:srcRect l="15777" t="22151" r="12328" b="30801"/>
          <a:stretch/>
        </p:blipFill>
        <p:spPr>
          <a:xfrm rot="19947000">
            <a:off x="5089320" y="1245960"/>
            <a:ext cx="419040" cy="210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2" descr=""/>
          <p:cNvPicPr/>
          <p:nvPr/>
        </p:nvPicPr>
        <p:blipFill>
          <a:blip r:embed="rId8"/>
          <a:stretch/>
        </p:blipFill>
        <p:spPr>
          <a:xfrm>
            <a:off x="7377120" y="4824360"/>
            <a:ext cx="142884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63840" y="1766880"/>
            <a:ext cx="3563640" cy="2670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2"/>
          <a:srcRect l="75981" t="0" r="-948" b="68576"/>
          <a:stretch/>
        </p:blipFill>
        <p:spPr>
          <a:xfrm>
            <a:off x="5127480" y="1677960"/>
            <a:ext cx="825480" cy="7779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7"/>
          <p:cNvSpPr/>
          <p:nvPr/>
        </p:nvSpPr>
        <p:spPr>
          <a:xfrm>
            <a:off x="3870360" y="3581280"/>
            <a:ext cx="84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Describing myse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9"/>
          <p:cNvSpPr/>
          <p:nvPr/>
        </p:nvSpPr>
        <p:spPr>
          <a:xfrm>
            <a:off x="1490760" y="2073240"/>
            <a:ext cx="105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understanding adjectival 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0"/>
          <p:cNvSpPr/>
          <p:nvPr/>
        </p:nvSpPr>
        <p:spPr>
          <a:xfrm>
            <a:off x="3198960" y="1998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describing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1"/>
          <p:cNvSpPr/>
          <p:nvPr/>
        </p:nvSpPr>
        <p:spPr>
          <a:xfrm>
            <a:off x="985680" y="3008160"/>
            <a:ext cx="105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describing physical appea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4"/>
          <p:cNvSpPr/>
          <p:nvPr/>
        </p:nvSpPr>
        <p:spPr>
          <a:xfrm>
            <a:off x="5783400" y="174456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recall &amp; expa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7021440" y="3386160"/>
            <a:ext cx="34920" cy="392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row: Right 6"/>
          <p:cNvSpPr/>
          <p:nvPr/>
        </p:nvSpPr>
        <p:spPr>
          <a:xfrm>
            <a:off x="6602400" y="2906640"/>
            <a:ext cx="1090800" cy="65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omic Sans MS"/>
              </a:rPr>
              <a:t>Describing person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Placeholder 1"/>
          <p:cNvSpPr/>
          <p:nvPr/>
        </p:nvSpPr>
        <p:spPr>
          <a:xfrm>
            <a:off x="1395360" y="4778280"/>
            <a:ext cx="1503360" cy="433440"/>
          </a:xfrm>
          <a:prstGeom prst="rect">
            <a:avLst/>
          </a:prstGeom>
          <a:noFill/>
          <a:ln w="9360">
            <a:solidFill>
              <a:srgbClr val="b41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knowled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Placeholder 1"/>
          <p:cNvSpPr/>
          <p:nvPr/>
        </p:nvSpPr>
        <p:spPr>
          <a:xfrm>
            <a:off x="3819600" y="4778280"/>
            <a:ext cx="1504800" cy="433440"/>
          </a:xfrm>
          <a:prstGeom prst="rect">
            <a:avLst/>
          </a:prstGeom>
          <a:noFill/>
          <a:ln w="9360">
            <a:solidFill>
              <a:srgbClr val="b3cc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Placeholder 1"/>
          <p:cNvSpPr/>
          <p:nvPr/>
        </p:nvSpPr>
        <p:spPr>
          <a:xfrm>
            <a:off x="6246720" y="4778280"/>
            <a:ext cx="1503360" cy="433440"/>
          </a:xfrm>
          <a:prstGeom prst="rect">
            <a:avLst/>
          </a:prstGeom>
          <a:noFill/>
          <a:ln w="9360">
            <a:solidFill>
              <a:srgbClr val="006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gramm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3"/>
          <p:cNvSpPr/>
          <p:nvPr/>
        </p:nvSpPr>
        <p:spPr>
          <a:xfrm>
            <a:off x="3762360" y="5299200"/>
            <a:ext cx="15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istening, speaking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 reading &amp;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4"/>
          <p:cNvSpPr/>
          <p:nvPr/>
        </p:nvSpPr>
        <p:spPr>
          <a:xfrm>
            <a:off x="6084720" y="5280120"/>
            <a:ext cx="18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ing irregular present tense verbs &amp; ad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5"/>
          <p:cNvSpPr/>
          <p:nvPr/>
        </p:nvSpPr>
        <p:spPr>
          <a:xfrm>
            <a:off x="1278000" y="5299200"/>
            <a:ext cx="169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escribing myself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6"/>
          <p:cNvSpPr/>
          <p:nvPr/>
        </p:nvSpPr>
        <p:spPr>
          <a:xfrm>
            <a:off x="4187880" y="1419120"/>
            <a:ext cx="106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mic Sans MS"/>
                <a:ea typeface="Arial"/>
              </a:rPr>
              <a:t>describing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77640" y="1676520"/>
            <a:ext cx="66690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0" lang="en-GB" sz="1900" spc="-1" strike="noStrike" u="sng">
                <a:solidFill>
                  <a:srgbClr val="000000"/>
                </a:solidFill>
                <a:uFillTx/>
                <a:latin typeface="Comic Sans MS"/>
              </a:rPr>
              <a:t>L’objectif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br>
              <a:rPr sz="2200"/>
            </a:b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o be able to describe yours &amp; other’s physical appear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43000" y="887400"/>
            <a:ext cx="1863720" cy="75888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Comic Sans MS"/>
              </a:rPr>
              <a:t>La grande idé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omic Sans MS"/>
              </a:rPr>
              <a:t>Identity &amp; cul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3021120" y="887400"/>
            <a:ext cx="3116160" cy="75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omic Sans MS"/>
              </a:rPr>
              <a:t>Décris toi-mê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1362240" y="3989520"/>
            <a:ext cx="1865160" cy="778680"/>
          </a:xfrm>
          <a:prstGeom prst="rect">
            <a:avLst/>
          </a:prstGeom>
          <a:solidFill>
            <a:srgbClr val="ffc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Can I recall adjectives in French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"/>
          <p:cNvSpPr/>
          <p:nvPr/>
        </p:nvSpPr>
        <p:spPr>
          <a:xfrm>
            <a:off x="3478320" y="3995640"/>
            <a:ext cx="1866960" cy="12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Am I able to explain rules about word order &amp; gendered nouns in French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5595840" y="3989520"/>
            <a:ext cx="2005200" cy="1235160"/>
          </a:xfrm>
          <a:prstGeom prst="rect">
            <a:avLst/>
          </a:prstGeom>
          <a:solidFill>
            <a:srgbClr val="ffff66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Am I able to apply vocabulary to independently describe physical appearanc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1498680" y="3429000"/>
            <a:ext cx="177624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UTCOM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6130800" y="887400"/>
            <a:ext cx="1863720" cy="75888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Comic Sans MS"/>
              </a:rPr>
              <a:t>La grande idée</a:t>
            </a:r>
            <a:r>
              <a:rPr b="1" lang="en-GB" sz="11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omic Sans MS"/>
              </a:rPr>
              <a:t>Theme 1 – Identity &amp; cul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920" y="522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Écrivez une liste de vocabulaire en </a:t>
            </a: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français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1000" y="196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d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amily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erson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hysical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433760" y="5589720"/>
            <a:ext cx="2895840" cy="3682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o this fro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rcRect l="0" t="0" r="0" b="3313"/>
          <a:stretch/>
        </p:blipFill>
        <p:spPr>
          <a:xfrm>
            <a:off x="6392880" y="2344680"/>
            <a:ext cx="1887480" cy="18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2"/>
          <p:cNvSpPr/>
          <p:nvPr/>
        </p:nvSpPr>
        <p:spPr>
          <a:xfrm>
            <a:off x="3668760" y="998640"/>
            <a:ext cx="16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3048120" y="1405080"/>
            <a:ext cx="2862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called Pau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2668680" y="1784520"/>
            <a:ext cx="3806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10 years ol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2436840" y="2168640"/>
            <a:ext cx="42703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10 years old and I have 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2309760" y="2581200"/>
            <a:ext cx="4781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10 years old and I have blue eyes. Also, I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1644480" y="3909960"/>
            <a:ext cx="6158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10 years old and I have blue eyes. Also, I have short, blonde hair and I am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292400" y="4597560"/>
            <a:ext cx="6927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10 years old and I have blue eyes. Also, I have short, blonde hair and I am small. However, my dad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1170000" y="890640"/>
            <a:ext cx="17953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Which of the following can you translate into French </a:t>
            </a:r>
            <a:r>
              <a:rPr b="1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without support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"/>
          <p:cNvSpPr/>
          <p:nvPr/>
        </p:nvSpPr>
        <p:spPr>
          <a:xfrm>
            <a:off x="1924200" y="3241800"/>
            <a:ext cx="5663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10 years old and I have blue eyes. Also, I have short, blonde hair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733320" y="5284800"/>
            <a:ext cx="79344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am 10 years old and I have blue eyes. Also, I have short, blonde hair and I am small. However, my dad has green eyes and is of average he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3668760" y="998640"/>
            <a:ext cx="16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e m’app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3048120" y="1405080"/>
            <a:ext cx="2862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e m’appelle Pau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2668680" y="1784520"/>
            <a:ext cx="3806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’ai dix ans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2436840" y="2168640"/>
            <a:ext cx="427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’ai dix ans et j’ai les yeux b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309760" y="2581200"/>
            <a:ext cx="4781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’ai dix ans et j’ai les yeux bleus. Aussi, j’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677960" y="3784680"/>
            <a:ext cx="6156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’ai dix ans et j’ai les yeux bleus. Aussi, j’ai les cheveux courts et blonds et je suis petit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1292400" y="4514760"/>
            <a:ext cx="6927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’ai dix ans et j’ai les yeux bleus. Aussi, j’ai les cheveux courts et blonds et je suis petit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ependant, mon pèr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2"/>
          <p:cNvSpPr/>
          <p:nvPr/>
        </p:nvSpPr>
        <p:spPr>
          <a:xfrm>
            <a:off x="1170000" y="890640"/>
            <a:ext cx="17953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Which of the following can you translate into French </a:t>
            </a:r>
            <a:r>
              <a:rPr b="1" lang="en-GB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without support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1924200" y="3044880"/>
            <a:ext cx="5663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’ai dix ans et j’ai les yeux bleus. Aussi, j’ai les cheveux courts et blonds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0"/>
          <p:cNvSpPr/>
          <p:nvPr/>
        </p:nvSpPr>
        <p:spPr>
          <a:xfrm>
            <a:off x="550800" y="5235480"/>
            <a:ext cx="8410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’ai dix ans et j’ai les yeux bleus. Aussi, j’ai les cheveux courts et blonds et je suis petit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ependant, mon père a les yeux verts et il est de taille moye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3480" y="404280"/>
            <a:ext cx="9077040" cy="211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, je m’appelle Amir. J’habite à Paris et j’ai neuf ans. J’ai les yeux bleus et les cheveux courts et marron. Aussi, je suis grand. Ma sœur, elle a les yeux verts et les cheveux longs et blonds. Mon père, il a les yeux bruns et les cheveux marron – il est de taille moyenne. Cependant, ma mère, elle a les yeux bleus et les cheveux mi-longs et châtains. Elle est peti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162000" y="3333600"/>
            <a:ext cx="90774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Using the reading text from last lesson as a model, can you now describe your physical appearance (as well as that of your family members) in Fren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omic Sans MS"/>
              </a:rPr>
              <a:t>Include</a:t>
            </a:r>
            <a:r>
              <a:rPr b="0" lang="fr-FR" sz="15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 range of adjectives (with the correct end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scriptions of hair length &amp; 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scriptions of eye 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scriptions of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 range of pronouns &amp; conn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4859280" y="5519880"/>
            <a:ext cx="2772000" cy="10674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s there any other information in French that you could include from memo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row: Right 9"/>
          <p:cNvSpPr/>
          <p:nvPr/>
        </p:nvSpPr>
        <p:spPr>
          <a:xfrm rot="18885600">
            <a:off x="4981320" y="2790360"/>
            <a:ext cx="1295640" cy="20304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odel a version her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08:58:15Z</dcterms:created>
  <dc:creator>Karl</dc:creator>
  <dc:description/>
  <dc:language>en-US</dc:language>
  <cp:lastModifiedBy>Mr P Kordbacheh</cp:lastModifiedBy>
  <cp:lastPrinted>2014-07-03T11:54:28Z</cp:lastPrinted>
  <dcterms:modified xsi:type="dcterms:W3CDTF">2021-06-15T13:56:49Z</dcterms:modified>
  <cp:revision>554</cp:revision>
  <dc:subject/>
  <dc:title>Slide 1</dc:title>
</cp:coreProperties>
</file>